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779F-86CA-4A9A-A0A8-078C9752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3EE8-AD8E-41E5-B90E-659630CE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E382-4DD4-4D6D-A507-E0E2769B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46AD-9077-4A53-A2D2-5AF438B5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321F-5658-492A-AE25-4C904A0A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629E-6081-4855-8C7E-DAE8EA59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1380-9F3F-4D6F-9E8B-AD5662DF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1824-AF8B-4119-A5AE-B3ABD2AC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FE91-3D1B-4CEC-9355-61EE7E89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00E7-B6DB-4DB7-860F-C34B3B2E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B56F-2839-4385-BD21-16285AFA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D56F-1E8A-44F2-A98E-40DF30B0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956C-AA6B-4468-AA34-579937F3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55B05-A38A-4D49-8DE6-7C77B98A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ECDD-7998-4015-A67C-5DEF5F0A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4A27-6858-40D9-B8B0-44C53914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A9D5-7720-4AAF-9D5D-B02EFB1B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FA06-53CA-469B-9BEC-766E509D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410-2844-4D33-ABE4-95491D12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B44F-19B8-45BE-B679-F4DB36C3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5D8C-8649-481E-8630-DC3699B0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69D6-27B8-4636-B8EB-45E3E2B9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9A80-8FD7-4A79-A309-D2CA80EF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CA32-913D-4602-90A4-C0581B41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A02D7-573F-4D3A-B4A5-32BD5DFDC99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4DF0-8161-4F2B-BF7B-A02AC5A35AB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apter 6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tomic Structure and Chemical Bond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riodic Table and Energy Leve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umber of electrons increases by one as you go across a peri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number of energy levels increases by one as you go down a colum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ight is Great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The Noble Gas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l noble gases either have all of their energy levels filled to its maximum or it has eight electrons in its outermost energy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ick Check-up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w many energy levels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alciu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trontiu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oron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ow many electrons in outermost level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ntimon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Berylliu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Krypton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eriodic Famil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roup 18- Noble Gass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Do not combine with other elemen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ome react slightly, but it is rar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roup 17- Haloge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Very reactive- only needs one electron to be stabl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lourine is the most active, outermost shell is closest to the nucleu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roup 1- Alkali Metal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Have one electron in outermost shel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Very reactive with haloge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n your Science Journal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ad and answer the questions in the “Applying Science” article on page 167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ectron Dot Diagram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rite Chemical Symbo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lace first dot on top of symbol and work right until all four sides have a dot or you are out of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nly use electrons in the outermost energy level. Wh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tarting back at the top fill in the remaining spaces until you are out of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mical Bo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force that hold atoms toget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toms bond in manner which makes both atoms sta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.e: both atoms outermost shells will be arranged like the noble gasses (8 Electrons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Ionic Bon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on- result of an atom loosing or gaining an electron and changing its overall charg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onic bond is an attraction which holds ions togeth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und- pure substance containing two or more elements that are chemically bond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Magnesium (+2 charge) meets with chlorine (-1 charge) will they bond? If so, How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etallic bond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m when metal atoms share their pooled electr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Keeps metals from breaking and makes them mallea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outermost electrons travel from one atom to another enabling a curre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oldab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mburger fol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amburger fol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ut along the sea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bel top half “ Ionic Bonds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abel the Bottom Half “Covalent Bonds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valent Bond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chemical bond that forms between non-metal atoms when they share electr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rm a neutral partic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Molecule- neutral particle formed when electrons are shar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iatomic Molec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ydrog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Oxyg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itroge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luori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hlori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romi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odin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statine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uble and Triple Bon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ometimes an atom shares more than one electron with another ato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ook at figure 17 on page 174 for double bon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en two pairs of electrons make one covalent bond it is called a double bon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uble and Triple Bond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gure 17 also shows a triple bond between 2 Nitrogen atom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occurs when three pairs of electrons are shared covalentl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ar Molec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Ball Dem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2 different sizes, one is positive and one is negativ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olar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en atoms of different sizes bond, they form polar molecule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se molecules do not share the electrons evenly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e larger atom keeps the electrons more than the smaller atom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lar Molec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 good example of a polar molecule is wa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so, hydrochloric acid and sodium chlorid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Draw these three molecules and determine the pol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mical Symbo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You all have been asking how elements get their symbol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Most elements are symbolized by their first letter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Examples: Hydrogen (H) and Carbon (C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thers are symbolized for their name in another languag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Potassium (K) – Latin for Kalium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Iron (Fe) – Greek for Ferrou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Chemical symbols are understood worldwid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hemical Symbol Ru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One Letter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ust be capitalize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Two Letters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irst letter is capital and the second is lowerca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f Three Letters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First letter is capitalized and the remaining are lowercas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914400" y="1219320"/>
            <a:ext cx="4952880" cy="487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71600" y="1676520"/>
            <a:ext cx="3886200" cy="21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 Black"/>
              </a:rPr>
              <a:t>2 H</a:t>
            </a:r>
            <a:r>
              <a:rPr b="0" lang="en-US" sz="12000" spc="-1" strike="noStrike" baseline="-25000">
                <a:solidFill>
                  <a:srgbClr val="000000"/>
                </a:solidFill>
                <a:latin typeface="Arial Black"/>
              </a:rPr>
              <a:t>2</a:t>
            </a:r>
            <a:endParaRPr b="0" lang="en-US" sz="1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981080" y="33523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3581280" y="3352320"/>
            <a:ext cx="0" cy="2133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648320" y="3657240"/>
            <a:ext cx="0" cy="15238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219320" y="4495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1f08"/>
                </a:solidFill>
                <a:latin typeface="Arial Black"/>
              </a:rPr>
              <a:t>Superscrip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28800" y="5410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 Black"/>
              </a:rPr>
              <a:t>Chemical Symbol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114800" y="5181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 Black"/>
              </a:rPr>
              <a:t>Subscript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on Chemical Formula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ydrochloric Aci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dium Chlori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odium Hydroxi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ulfuric Aci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ilver Nitrat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ron Oxi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Water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Hydrogen Peroxi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mmoni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Nitric Aci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cetic Aci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agnesium Chlorid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Key Vocabul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lectron clou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lectron dot diagram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hemical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onic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mpou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etallic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ovalent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Molecul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olar Bon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Chemical Formul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tomic Structur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our desk appears to be solid, but it is mostly empty spac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ectron cloud- the area of open space around an atom’s nucleus that contains electron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e path of an electron is not well mapped. It is actually kind of rando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ectron clou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ery similar to the blades of a ceiling fa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t appears that there is a circle rotating when it is a few blades moving at such a fast rate that it creates that imag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lectron arrangemen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though all the electrons are in the electron cloud, some electrons are closer to the nucleus than oth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nergy Levels- different areas for an electron in an ato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ook at figure 3 on page 163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umber of Electr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ach energy level can only hold a certain number of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Level One- can hold either 1 or 2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Level Two- can hold up to 8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Level Three- can hold up to 18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Energy Level Four- can hold up to 32 electron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Quick Lab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Get a magnet and 4 paper clip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se the magnet to pick up one paper clip—record observa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Use the magnet to pick up the rest of the paper clips one at a time—record observa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One at a time remove the paper clips from the magnet—record observation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ich paper clip was the easiest to remove? Wh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nergy Level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ectrons in energy level one have the least amount of energy and are less likely to leave the ato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Electrons in energy level 4 have the most energy and are more likely to leave the atom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02:21:38Z</dcterms:created>
  <dc:creator>Adam's Homepage</dc:creator>
  <dc:description/>
  <dc:language>en-US</dc:language>
  <cp:lastModifiedBy>Adam's Homepage</cp:lastModifiedBy>
  <dcterms:modified xsi:type="dcterms:W3CDTF">2008-10-30T13:48:25Z</dcterms:modified>
  <cp:revision>5</cp:revision>
  <dc:subject/>
  <dc:title>Chapter 6</dc:title>
</cp:coreProperties>
</file>